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5C58-173C-4141-8950-D0E5EC4FF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CCF5-DEA6-4B8F-8319-C205BB3A44F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DA71-6FB8-46DF-A8C8-B9A7CAB64FE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fairy tales and its elements; compare and contrast elements; magical kingdom mural, after four weeks – asked to write a fairy tale, prewriting, conferencing, pub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: to see students “consciously incorporated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y tale ele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their own stories (without suggesting they should be)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iry tale “language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other fairy tale detai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B79D-89BC-4E36-B902-794BA9571E1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d “internalized” language, elements, characters, and plots from stories due to the classroom culture (IMMERSED in a literature study) that was set up, reading across so many, discussing elements, comparing/contrasting, word splash, mural, etc., etc., (all those response activities – if well planned – can foster conscious (EXPLICIT METACOGNITIVE CONNECTIONS) or unconscious awareness (THROUGH SHEER EXPOSURE) of genre structures). And using as models to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d “internalized” language, elements, characters, and plots from stories due to the classroom culture (IMMERSED in a literature study) that was set up, reading across so many, discussing elements, comparing/contrasting, word splash, mural, etc., etc., (all those response activities – if well planned – can foster conscious (EXPLICIT METACOGNITIVE CONNECTIONS) or unconscious awareness (THROUGH SHEER EXPOSURE) of genre structures). And using as models to write; high-ability students tend to be more metacognitively aware (Consciously aware of strategy use and thinking about think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1A5F-CB2C-4098-AFF5-ED4069601FF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0F36-64AF-4CBA-8C9A-2C893903C89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39DC-9A97-40E9-B9A3-23F63371DAC2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CB53-5090-41AD-AE72-7A9D3EAFAE7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A37F-7811-4145-9ED8-31C10A4F001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4F40-E5E8-4F43-94F8-F435D07C9120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1E8-214C-4787-A044-8305B9AD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DF3-61F7-4079-8D73-5B900E5F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DFE-292C-4743-B9D5-77E8C811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B8F-37FA-4111-9D6D-006A1C66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A475-0898-4014-BAE4-AE3DFC73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8F74-967D-4E4D-A9A9-A6AC2F05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D642-1AEE-4183-8627-3D539ED2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7643-0770-4627-A813-D32499EC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F93E-C75A-4B73-8724-26925A8D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85E7-872C-4223-9219-EFDC52B3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0371-7BE3-4407-8FEF-747E1AC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8D0-5C86-4189-8BD7-AC5075F7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A914-AA90-46E1-B667-774369C8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C14D-EA72-4FAE-B777-569F6F4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1EF2-4DA5-48C0-A733-6CA72C22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F714-619A-4F09-8DF7-84062772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B3E9-869B-47DE-B1DC-1E3405F7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2FC-ECB9-4A37-B9ED-FE8A668C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9FF-BA4D-4664-B2E9-5A068F0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D09-62D9-4D82-B8D8-E6AB1CD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F37-E41F-4734-B7B7-E7F1FB27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05A-8089-493E-8130-59346282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34E-5AFF-4C76-985A-39E0145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CF8-FD6E-4093-9A98-92D7BB3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6D1-75BC-4E6E-AD9E-99D741010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8B96-D112-4D34-868C-C3CCAFB6995F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xt characteristics affect comprehension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e explicit as you teach students about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genre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 u="sng">
                <a:solidFill>
                  <a:srgbClr val="320000"/>
                </a:solidFill>
                <a:uFillTx/>
                <a:latin typeface="Arial"/>
              </a:rPr>
              <a:t>text structu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Fairy Tale Connect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Bearse, 1992) – Purpose?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“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interven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” took place?  Key elements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word splash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read lots of different stories (exposed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compare/contrast in mini-less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wrote (process writing, key componen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was the </a:t>
            </a:r>
            <a:r>
              <a:rPr b="0" lang="en-US" sz="2800" spc="-1" strike="noStrike" u="sng">
                <a:solidFill>
                  <a:srgbClr val="330000"/>
                </a:solidFill>
                <a:uFillTx/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of the study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. connections to other fairy tales (intertextualit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. conscious?  Unconscious? Connections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. langua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Fairy Tale Connection 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(Bearse, 1992) – Key finding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1% (11/18 students) mad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onscious connection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o stories they had read previously (naming characters, borrowed plot details; synthesized several fairy tales into their writing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ynthesis was often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unconsciou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, whether the connections were to fairy tales or certain fairy tale elements (e.g., the lead, magical element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ll children, to some extent,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nternalized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phisticated sentence structure, rhythms, and poetic language of fairy tale languag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did that happen?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Key Practices to Foster Reading/Writing Connec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stering reading/writing connection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mmerse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in genre stud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vide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licit instruction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 language and structure of each gen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vide lots of </a:t>
            </a: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posur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to multiple texts and models before you expect students to write in that genr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Q: Why do you think that high-ability students tended to mak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consciou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 while low-ability students seemed to make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unconsciou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connections?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or Tuesday, October 25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nish Book Activity 3 Refle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Finish Book Activity 4: Magic Treehouse (read and create five minute strategy script to present in clas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pter 5: (p. 142) and skim handouts on Expository Text Structures (in Text Difficulty handou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keep in mind with Magic Treehouse book – which mixes fiction, nonfiction, and fantas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Review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arrative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enres &amp; text structur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Examine several versions of Cinderella for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key elements of fairy tal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Reflect on the Prove It Process and connect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  to key ideas in Bearse’s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 Fairy Tale</a:t>
            </a:r>
            <a:br>
              <a:rPr sz="2800"/>
            </a:b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    Conn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at kinds of narrative texts should be in your classroom library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rainstorm as many “narrative genres” as you can in two minutes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Genres of Narrative Tex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raditional Storie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Folktales, Fairytales, Fables, Myths, Trickster Tales, Legends, Tall Tal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Fantas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nimal, toy, science fiction, time fantasy, horror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Realistic Fiction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ntemporary (sports, survival, school, family), historical, myster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etr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uplet, free verse, haiku, shape poems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ulticultural/International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intersecting, but representing specific cultur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859320" y="5875200"/>
            <a:ext cx="747756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F YOU HAVE ALL OF THESE,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WHAT’S STILL MISSING IN YOUR CLASSROOM??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EXPOSITORY TEXTS!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Nonfict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formationa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iograph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utobiograph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Expository (textbook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oys love them!    Fosters personal inquiry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plicitly teach “reading to learn” rather than assume natural transition from learning to read to avoid “fourth grade slump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lements of Narrative Text Structur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etting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alistic (specific or anytown USA), fictional, or fantasy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Character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revealed through words, actions, and descri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lo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Beginning/Middle/End &gt; Conflict and Resolu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Them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unifying truth, universal message (big idea statement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Stylistic Elements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structure, figurative language, mood, irony, humor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Point of view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who’s telling the story?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Comprehension &amp; Response Structures  </a:t>
            </a:r>
            <a:br>
              <a:rPr sz="3200"/>
            </a:b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During &amp; After Reading Narrative Texts)</a:t>
            </a:r>
            <a:br>
              <a:rPr sz="3200"/>
            </a:br>
            <a:r>
              <a:rPr b="1" lang="en-US" sz="3200" spc="-1" strike="noStrike">
                <a:solidFill>
                  <a:srgbClr val="320000"/>
                </a:solidFill>
                <a:latin typeface="Arial"/>
              </a:rPr>
              <a:t>RETELLING… 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4" name="Picture 3" descr="Screen shot 2011-10-19 at 9.54.19 PM.png"/>
          <p:cNvPicPr/>
          <p:nvPr/>
        </p:nvPicPr>
        <p:blipFill>
          <a:blip r:embed="rId1"/>
          <a:stretch/>
        </p:blipFill>
        <p:spPr>
          <a:xfrm>
            <a:off x="457200" y="2971800"/>
            <a:ext cx="337356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3985920" y="2209680"/>
            <a:ext cx="4620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B/M/E – 3 sentences/paragraph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510080" y="3276720"/>
            <a:ext cx="3771360" cy="459720"/>
          </a:xfrm>
          <a:prstGeom prst="rect">
            <a:avLst/>
          </a:prstGeom>
          <a:solidFill>
            <a:srgbClr val="ff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mebody/Wanted/But/So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4516920" y="4191120"/>
            <a:ext cx="3675240" cy="459720"/>
          </a:xfrm>
          <a:prstGeom prst="rect">
            <a:avLst/>
          </a:prstGeom>
          <a:solidFill>
            <a:srgbClr val="ffd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quence Events&gt;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798440" y="5037120"/>
            <a:ext cx="3227040" cy="825480"/>
          </a:xfrm>
          <a:prstGeom prst="rect">
            <a:avLst/>
          </a:prstGeom>
          <a:solidFill>
            <a:srgbClr val="00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Problem/Feelings and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olution/Feeling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raditional Tales: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an You Prove It’s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 Fairy Tal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nd Multicultural Literature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(reflect differences in cultural beliefs and what’s important in life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s this effective for teaching elements of a particular genr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nefits of this activity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nefits of the intervention i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Bearse article for reading &amp; writ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1:50:04Z</dcterms:created>
  <dc:creator>Julie Coiro</dc:creator>
  <dc:description/>
  <dc:language>en-US</dc:language>
  <cp:lastModifiedBy>Julie Coiro</cp:lastModifiedBy>
  <cp:lastPrinted>2010-10-05T01:50:07Z</cp:lastPrinted>
  <dcterms:modified xsi:type="dcterms:W3CDTF">2011-10-20T03:00:56Z</dcterms:modified>
  <cp:revision>207</cp:revision>
  <dc:subject/>
  <dc:title>Metacognitive Strategy Instruction to Enhance Reading Comprehension</dc:title>
</cp:coreProperties>
</file>